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C08-E223-4AE7-966B-5D1E6A1F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CFF-7816-43EA-8587-225039D7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A99-A246-4348-9C4B-7AD2E16C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BE0-2AA9-4D77-9B29-F62C5430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52C-7B63-4AF7-93A1-0580800D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BFCA-15F6-4A9E-A1E7-8B26F767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16DA-37C9-4FB5-9EB7-B10B7C07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3B02-DF1D-4C02-ADDF-7D29D3B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BE8-475F-4F7B-A547-B2778A5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6191-4B30-46C5-B508-F2E3E39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D559-72F4-4294-A6DB-6AFB4A4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4D9-C294-4BB4-82AC-64C5FA8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A2B1-1FA0-440F-AF90-480F0B67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3C85-41A4-48DE-834C-EC7EF72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BF36-D742-4D48-81E0-2282F435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8FD4-A754-4921-9774-D9F6791C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DF8B-4F84-4ADD-A86B-6B2A587B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738-E7A7-41EB-B0AF-26502AB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16F-1276-44A8-AAB9-37A06FC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B26-2AA1-4E62-9505-883FDC2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066-28F2-4619-A569-B9028F7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1FE-C088-4123-8DEA-5D2086A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9DA-E232-43AF-926E-D2826EBE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D95-5BBA-4D38-8617-1748B79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467F-FD8C-4C20-97EB-F08DE792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12DD-F5CA-4F41-93C2-E19B01BC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3BEC8E51-6DD6-480B-8CBB-57D477C6A1C3&amp;bInFromSearch=1&amp;productcode=US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eachertube.com/viewVideo/php?video_id=111851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10.xml"/><Relationship Id="rId10" Type="http://schemas.openxmlformats.org/officeDocument/2006/relationships/image" Target="../media/image7.jpeg"/><Relationship Id="rId11" Type="http://schemas.openxmlformats.org/officeDocument/2006/relationships/slide" Target="slide9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8.xml"/><Relationship Id="rId16" Type="http://schemas.openxmlformats.org/officeDocument/2006/relationships/slide" Target="slide14.xml"/><Relationship Id="rId17" Type="http://schemas.openxmlformats.org/officeDocument/2006/relationships/image" Target="../media/image10.jpeg"/><Relationship Id="rId18" Type="http://schemas.openxmlformats.org/officeDocument/2006/relationships/slide" Target="slide15.xm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dustrial Amer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ical Advancements and the Road to Gre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5562720"/>
            <a:ext cx="86104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Click to see video on Industrialization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omas A. Edis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ght Bulb (187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ture of Electri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= J.P. Mor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dison Electric Light Comp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Edison with light bulb, 1912"/>
          <p:cNvPicPr/>
          <p:nvPr/>
        </p:nvPicPr>
        <p:blipFill>
          <a:blip r:embed="rId1"/>
          <a:stretch/>
        </p:blipFill>
        <p:spPr>
          <a:xfrm>
            <a:off x="4813200" y="1752480"/>
            <a:ext cx="3429000" cy="4267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>
            <a:hlinkClick r:id="rId2" action="ppaction://hlinksldjump"/>
          </p:cNvPr>
          <p:cNvSpPr/>
          <p:nvPr/>
        </p:nvSpPr>
        <p:spPr>
          <a:xfrm>
            <a:off x="533412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stavus Swif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90760" y="1752480"/>
            <a:ext cx="4376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8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wift &amp; Company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frigerated Railroad C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t packing indus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Gustavus Swift&#10;&#10;&#10;[Credits : Courtesy of Swift &amp; Company, Chicago]"/>
          <p:cNvPicPr/>
          <p:nvPr/>
        </p:nvPicPr>
        <p:blipFill>
          <a:blip r:embed="rId1"/>
          <a:stretch/>
        </p:blipFill>
        <p:spPr>
          <a:xfrm>
            <a:off x="1143000" y="1828800"/>
            <a:ext cx="3344760" cy="4133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>
            <a:hlinkClick r:id="rId2" action="ppaction://hlinksldjump"/>
          </p:cNvPr>
          <p:cNvSpPr/>
          <p:nvPr/>
        </p:nvSpPr>
        <p:spPr>
          <a:xfrm>
            <a:off x="13716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od Guy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48640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See the other sid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6" descr="john%20d%20rockefeller-1"/>
          <p:cNvPicPr/>
          <p:nvPr/>
        </p:nvPicPr>
        <p:blipFill>
          <a:blip r:embed="rId1"/>
          <a:stretch/>
        </p:blipFill>
        <p:spPr>
          <a:xfrm>
            <a:off x="1219320" y="3200400"/>
            <a:ext cx="2133360" cy="3238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arnegieLibrary-1914-1b"/>
          <p:cNvPicPr/>
          <p:nvPr/>
        </p:nvPicPr>
        <p:blipFill>
          <a:blip r:embed="rId2"/>
          <a:stretch/>
        </p:blipFill>
        <p:spPr>
          <a:xfrm>
            <a:off x="4419720" y="2057400"/>
            <a:ext cx="399564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d Guy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or Working Conditions for employ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vish Lifestyles for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87692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See the other sid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6" descr="chocolate"/>
          <p:cNvPicPr/>
          <p:nvPr/>
        </p:nvPicPr>
        <p:blipFill>
          <a:blip r:embed="rId1"/>
          <a:stretch/>
        </p:blipFill>
        <p:spPr>
          <a:xfrm>
            <a:off x="1371600" y="3657600"/>
            <a:ext cx="285768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Moorish_smoking_room_650"/>
          <p:cNvPicPr/>
          <p:nvPr/>
        </p:nvPicPr>
        <p:blipFill>
          <a:blip r:embed="rId2"/>
          <a:stretch/>
        </p:blipFill>
        <p:spPr>
          <a:xfrm>
            <a:off x="4952880" y="2286000"/>
            <a:ext cx="28400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614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d Automobi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-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ing Assembly L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Ford%2520Assembly%2520line"/>
          <p:cNvPicPr/>
          <p:nvPr/>
        </p:nvPicPr>
        <p:blipFill>
          <a:blip r:embed="rId1"/>
          <a:stretch/>
        </p:blipFill>
        <p:spPr>
          <a:xfrm>
            <a:off x="4572000" y="2286000"/>
            <a:ext cx="3962520" cy="3405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odel-t1"/>
          <p:cNvPicPr/>
          <p:nvPr/>
        </p:nvPicPr>
        <p:blipFill>
          <a:blip r:embed="rId2"/>
          <a:stretch/>
        </p:blipFill>
        <p:spPr>
          <a:xfrm>
            <a:off x="685800" y="3886200"/>
            <a:ext cx="3705120" cy="256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4100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400800" y="2286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Want to know more about Henry Ford? Click HER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Bessem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6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ssemer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ns iron into ste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nce to industrial growth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220px-Henry_Bessemer"/>
          <p:cNvPicPr/>
          <p:nvPr/>
        </p:nvPicPr>
        <p:blipFill>
          <a:blip r:embed="rId1"/>
          <a:stretch/>
        </p:blipFill>
        <p:spPr>
          <a:xfrm>
            <a:off x="457200" y="4648320"/>
            <a:ext cx="1763640" cy="20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General"/>
          <p:cNvPicPr/>
          <p:nvPr/>
        </p:nvPicPr>
        <p:blipFill>
          <a:blip r:embed="rId2"/>
          <a:stretch/>
        </p:blipFill>
        <p:spPr>
          <a:xfrm>
            <a:off x="4267080" y="1828800"/>
            <a:ext cx="4133880" cy="3876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51460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 Summar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is it important to identify bia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pieces of evidence do you think a historian would use if he viewed the early industrial moguls as Captains of Industry?  What about Robber Barons?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did this all start!?!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llowing the Civil War, railroads allowed for expansion west.  Big railroad companies started buying smaller ones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5" descr="railroad_mainline"/>
          <p:cNvPicPr/>
          <p:nvPr/>
        </p:nvPicPr>
        <p:blipFill>
          <a:blip r:embed="rId1"/>
          <a:stretch/>
        </p:blipFill>
        <p:spPr>
          <a:xfrm>
            <a:off x="3886200" y="3429000"/>
            <a:ext cx="4933800" cy="3270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>
            <a:hlinkClick r:id="rId2"/>
          </p:cNvPr>
          <p:cNvSpPr/>
          <p:nvPr/>
        </p:nvSpPr>
        <p:spPr>
          <a:xfrm>
            <a:off x="0" y="403848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Verdana"/>
              </a:rPr>
              <a:t>Click here to listen to a podcast on Big Busines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ptains of Industry or Robber Barons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vanderbilts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2743200"/>
            <a:ext cx="177480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rew_carnegiesm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057400" y="4410000"/>
            <a:ext cx="156528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jpmorgans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3352680"/>
            <a:ext cx="147780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john_rockefellersm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34320" y="3581280"/>
            <a:ext cx="19494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Edison with light bulb, 191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10280" y="990720"/>
            <a:ext cx="1898640" cy="23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image00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04920" y="5143680"/>
            <a:ext cx="153036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null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057400" y="2514600"/>
            <a:ext cx="140796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5">
            <a:hlinkClick r:id="rId15" action="ppaction://hlinksldjump"/>
          </p:cNvPr>
          <p:cNvSpPr/>
          <p:nvPr/>
        </p:nvSpPr>
        <p:spPr>
          <a:xfrm>
            <a:off x="6781680" y="5867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Done exploring the Money M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7" descr="USAfordH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381640" y="2819520"/>
            <a:ext cx="1324080" cy="162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henry-bessemer-3-sized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334120" y="4724280"/>
            <a:ext cx="1400040" cy="18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rnelius Vanderbi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8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derbilt started buying out smaller railroad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ught up most of the track headed out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company would refuse to sell to him, he would refuse to let passengers from their trains use his trains to head out west – took away all their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cornelius_vanderbilt"/>
          <p:cNvPicPr/>
          <p:nvPr/>
        </p:nvPicPr>
        <p:blipFill>
          <a:blip r:embed="rId1"/>
          <a:stretch/>
        </p:blipFill>
        <p:spPr>
          <a:xfrm>
            <a:off x="6400800" y="2133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>
            <a:hlinkClick r:id="rId2" action="ppaction://hlinksldjump"/>
          </p:cNvPr>
          <p:cNvSpPr/>
          <p:nvPr/>
        </p:nvSpPr>
        <p:spPr>
          <a:xfrm>
            <a:off x="5943600" y="5638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drew Carn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0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ld STEEL – necessary to make a railroad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ed buying steel mines, and railroad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ling all aspects of production from top to bottom is called vertical integr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andrew%20carnegie"/>
          <p:cNvPicPr/>
          <p:nvPr/>
        </p:nvPicPr>
        <p:blipFill>
          <a:blip r:embed="rId1"/>
          <a:stretch/>
        </p:blipFill>
        <p:spPr>
          <a:xfrm>
            <a:off x="5638680" y="1752480"/>
            <a:ext cx="2776680" cy="381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>
            <a:hlinkClick r:id="rId2" action="ppaction://hlinksldjump"/>
          </p:cNvPr>
          <p:cNvSpPr/>
          <p:nvPr/>
        </p:nvSpPr>
        <p:spPr>
          <a:xfrm>
            <a:off x="5638680" y="5638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.P. Morga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33560" y="1752120"/>
            <a:ext cx="483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gan gaining power in banking industry when he began reorganizing railroa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s involved in reorganizing General Electric and US Stee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jp-morgan1"/>
          <p:cNvPicPr/>
          <p:nvPr/>
        </p:nvPicPr>
        <p:blipFill>
          <a:blip r:embed="rId1"/>
          <a:stretch/>
        </p:blipFill>
        <p:spPr>
          <a:xfrm>
            <a:off x="990720" y="1905120"/>
            <a:ext cx="2447640" cy="3962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>
            <a:hlinkClick r:id="rId2" action="ppaction://hlinksldjump"/>
          </p:cNvPr>
          <p:cNvSpPr/>
          <p:nvPr/>
        </p:nvSpPr>
        <p:spPr>
          <a:xfrm>
            <a:off x="8380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ohn D. Rockefeller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224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profits from his refineries to buy up other oil compan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ashed his prices enough to force other companies out of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ed the Standard Oil Trust and controlled 95% of the indust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ohn_rockefeller"/>
          <p:cNvPicPr/>
          <p:nvPr/>
        </p:nvPicPr>
        <p:blipFill>
          <a:blip r:embed="rId1"/>
          <a:stretch/>
        </p:blipFill>
        <p:spPr>
          <a:xfrm>
            <a:off x="533520" y="1828800"/>
            <a:ext cx="3333600" cy="4286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>
            <a:hlinkClick r:id="rId2" action="ppaction://hlinksldjump"/>
          </p:cNvPr>
          <p:cNvSpPr/>
          <p:nvPr/>
        </p:nvSpPr>
        <p:spPr>
          <a:xfrm>
            <a:off x="762120" y="6248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do you think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good things do you think these men could have brought to the lives of workers in the U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bad things do you think these men could have brought to the lives of workers in the U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1523880" y="48769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Good Gu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>
            <a:hlinkClick r:id="rId2" action="ppaction://hlinksldjump"/>
          </p:cNvPr>
          <p:cNvSpPr/>
          <p:nvPr/>
        </p:nvSpPr>
        <p:spPr>
          <a:xfrm>
            <a:off x="5105520" y="48769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Bad Guy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6">
            <a:hlinkClick r:id="" action="ppaction://hlinkshowjump?jump=lastslide"/>
          </p:cNvPr>
          <p:cNvSpPr/>
          <p:nvPr/>
        </p:nvSpPr>
        <p:spPr>
          <a:xfrm>
            <a:off x="144792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Explored both sides of the argument? Click Her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uel Mo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919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graph (1837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s – RR= commun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70= Western Union Telegraph 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image001"/>
          <p:cNvPicPr/>
          <p:nvPr/>
        </p:nvPicPr>
        <p:blipFill>
          <a:blip r:embed="rId1"/>
          <a:stretch/>
        </p:blipFill>
        <p:spPr>
          <a:xfrm>
            <a:off x="609480" y="1828800"/>
            <a:ext cx="3741840" cy="4191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>
            <a:hlinkClick r:id="rId2" action="ppaction://hlinksldjump"/>
          </p:cNvPr>
          <p:cNvSpPr/>
          <p:nvPr/>
        </p:nvSpPr>
        <p:spPr>
          <a:xfrm>
            <a:off x="106668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Back to Money 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98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4:49:11Z</dcterms:created>
  <dc:creator>nccvt</dc:creator>
  <dc:description/>
  <dc:language>en-US</dc:language>
  <cp:lastModifiedBy>Sacerdote, Kevin R.</cp:lastModifiedBy>
  <dcterms:modified xsi:type="dcterms:W3CDTF">2015-09-29T11:54:56Z</dcterms:modified>
  <cp:revision>14</cp:revision>
  <dc:subject/>
  <dc:title>Captains of Industry or Robber Barons?</dc:title>
</cp:coreProperties>
</file>